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8B4-9EE8-4B4B-922D-EEF48839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200-138A-4973-B67C-F6098707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E90-BBFB-4C41-B0B2-D3978D3E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443-0112-4FEF-A6CF-1CE64868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0D09-4414-429D-B1D1-25718C9A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6982-1E63-4038-9AFF-B716644B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153-F90D-4DFE-9714-E5C5087F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E45A-888F-48FB-B7A7-32E8AF30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7066-84BB-4AC0-A558-38C22BA4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6A4C-310C-4D53-9514-B7F81783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7E80-CC2B-4704-9C45-B910C7F9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3C1-28E8-465D-A80A-6BD9B26C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67BC-48E2-42AD-A9A1-DDF5B012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8672-25BE-4E35-8DF4-9FB9A66C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4D2B-A1BB-4FD2-B295-B1085972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C48D-C6A1-48F1-86DA-A1B63FE4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D50-4569-4CA1-BD44-4CDE645E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CA4-71E2-43CE-AB75-0E987AF2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865-D5D6-4174-A7BD-1E039D22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746-A516-4EA9-9454-1BD79D1C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756-E8C6-4D32-AEA8-9205713B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F45-7452-4455-BABD-C9C5EE5E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04E-6E10-430E-ADB6-1162F36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CCE-1216-4982-9C4B-8B1D337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D978-8FF5-45D5-B387-A810D02DFFB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8C05-D968-452A-8BBF-4D52D1E97B6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Paulina Chumako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patio es lujoso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733920" cy="2482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Mi pis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piscina 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relaj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nks for watc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Cas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 casa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único y moderno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562360" cy="359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cocina es 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amaderado y tropical.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cuarto 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legante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y boni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Mi patio de recre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patio de recreo incredibl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una mi sala. La sala es fabulos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4956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garaje es moderno y nuevo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8320" y="2763720"/>
            <a:ext cx="4343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jardin es bello y grand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648320" y="2344680"/>
            <a:ext cx="4267080" cy="320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bañ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cuarto de baño tiene una hermosa vista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3809880" cy="2206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28Z</dcterms:created>
  <dc:creator>chumakovpau</dc:creator>
  <dc:description/>
  <dc:language>en-US</dc:language>
  <cp:lastModifiedBy>chumakovpau</cp:lastModifiedBy>
  <dcterms:modified xsi:type="dcterms:W3CDTF">2012-03-28T17:39:12Z</dcterms:modified>
  <cp:revision>7</cp:revision>
  <dc:subject/>
  <dc:title>La Mansion</dc:title>
</cp:coreProperties>
</file>